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49AD-7BC1-4412-B5D4-A010DA51A2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3BC4-081D-4B0F-B253-33011D3A75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2D9C-82A5-4EDD-AB68-CA35F0E2FA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989-BF42-4DC0-AB5F-0B3820E7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FBB-88C3-4D4A-A845-DFED751E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7F02-AA0B-456E-8022-B95842DBE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C78-948D-4524-8E9C-43B73ADD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B185D-A05A-488B-A01E-43B34A040D9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0D0C-7401-4756-A27F-D7FA488C2D4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6E5F-EFC8-401E-87E1-8D5CC58861D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8A60F-DF42-4979-BFAA-D04FA983E05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FA71-496E-4E40-82E8-706DF86ECBE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6706-34E0-4072-9613-A98A53AC907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9314-A797-4FDB-8838-FB391A112D4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4286-EC29-4126-B77D-9F061181379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5813-FBBE-41A6-9EA1-33E1A42948D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9E35-E4F4-47D9-9D5D-F58B06450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859-B306-487E-B157-D67A82F4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CC48A-CC86-460B-A58E-1675488CDFA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E8E-B30E-42A6-B010-97760814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4AF-E2FC-407A-BAC1-50D5C886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AF875-F4DF-4DD7-86A9-F7F60634B1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FC317-48C9-4ECF-90F6-387DDE9FC5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FA1E9-95B8-453E-9765-2023645FA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327-C45C-4B65-B175-93F2E5E9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53B57-70EB-4679-8482-C41EE86A3F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BCD5F-45E7-4A81-B000-82989962B6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A76FF-A8B9-4907-95A0-C8325DC8E0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F9AA8-6B00-4A60-82B4-3E2E48C49A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9BA45-B23C-4699-8D4D-10D414AA06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CE61F-B568-4558-93AA-A0214B4DB4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C2175-5AD9-4499-B8E9-4BA7D00F86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1F955-D5B9-43A6-856A-970037A6D5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B1AE2-411A-4247-BD20-90B807CE95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29193-06BF-45F3-AE50-7F008FDBB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7A4-FD82-4039-9DD7-92E5C2E4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04B98B-DF27-4FD3-8B23-49DE3CDBF74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C1CD9-94F9-48E4-BE8A-859B416065B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5EE18-FD4F-4C5D-A038-DE47C46690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C76AA-D960-458E-AA23-F9944467AF1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2A21E-AC54-4E62-BDB3-229BECDEAA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46D87-6E73-4784-872F-25A05895F9D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9AD9D-0A4F-47BE-8DFE-48994A9E4A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9B748-378F-498B-B9B4-8F40364314D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78BBD-4C9C-4EE3-A261-D84FF8EC1CA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1B250-D53B-4B72-979C-77D0B9F8A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AD3-18E1-4B1D-AEA8-2BC572A5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FF9BE-0AD9-41BB-AE1A-E6DF1F3146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574-AEBB-47F5-83EB-4D9056D3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F7A-151D-43F3-A07F-2C384F0F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F98-3BD7-45C9-8BD7-5BBD51F1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7507-F2F7-4527-AE5F-D20FF3095C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3127-9543-4F48-B266-0460BD3243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844A-D74E-42AC-99AB-4AA97B35E8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43CB-5ECE-4DA4-AC9C-E50756E2E3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挂失补办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挂失补办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办理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数字证书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遗失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为损坏导致无法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企业名称等信息未发生变化，与原来提交的申请信息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42960" y="20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远程办理：通过互联网远程补办数字证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324000" y="93816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使用浏览器登录网址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sg.szitrus.com.cn/gateway/regis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，填写公司名称和需要补办的证书编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4" descr=""/>
          <p:cNvPicPr/>
          <p:nvPr/>
        </p:nvPicPr>
        <p:blipFill>
          <a:blip r:embed="rId1"/>
          <a:stretch/>
        </p:blipFill>
        <p:spPr>
          <a:xfrm>
            <a:off x="1116000" y="1889280"/>
            <a:ext cx="69087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24000" y="1052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下载相关补办申请资料并进行填写，填写的信息必须与公司信息一致（请仔细核对）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后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快递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制作，并和发票一起快递给供应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特别说明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为确保及时、准确的收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及发票，天威诚信选用顺丰快递，快递费用由供应商到付</a:t>
            </a:r>
            <a:r>
              <a:rPr b="1" lang="zh-CN" sz="1800" spc="-1" strike="noStrike">
                <a:solidFill>
                  <a:srgbClr val="558ed5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5"/>
          <p:cNvSpPr/>
          <p:nvPr/>
        </p:nvSpPr>
        <p:spPr>
          <a:xfrm>
            <a:off x="755640" y="2924280"/>
            <a:ext cx="80661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公司补办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"/>
          <p:cNvSpPr/>
          <p:nvPr/>
        </p:nvSpPr>
        <p:spPr>
          <a:xfrm>
            <a:off x="714240" y="1000080"/>
            <a:ext cx="80661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04Z</dcterms:modified>
  <cp:revision>209</cp:revision>
  <dc:subject/>
  <dc:title>幻灯片 1</dc:title>
</cp:coreProperties>
</file>